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90A-FBD2-4A8D-8026-632583A0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5EC-407F-4024-9E30-B677D7D8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66B-BFE8-4362-9E67-7DB2BE4F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342-CDED-41AA-B4BA-7CAA53B9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BB4-60BB-44F0-B25F-3688BB2C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6C1-49E5-4FDF-86C3-030E381C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7EB-09E5-46EF-9302-51EE128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430-769C-4FA4-86E8-7397199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CCC-C20F-47A9-9C54-2437794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860-4711-4BA9-A946-6DD4F6E6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11E-5A28-4D8B-9B56-FA56698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56E-3543-42DD-B3FA-A54A2A3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E69C-D2CE-49AA-A5EB-8FE5FF988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58200" cy="714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 rot="379800">
            <a:off x="1571760" y="3578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сп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 flipV="1" rot="8816400">
            <a:off x="5226840" y="92880"/>
            <a:ext cx="26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тузи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 rot="20661000">
            <a:off x="7214760" y="393660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 rot="1371600">
            <a:off x="329040" y="2967120"/>
            <a:ext cx="19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зи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 rot="1134000">
            <a:off x="581400" y="21002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теп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3"/>
          <p:cNvSpPr/>
          <p:nvPr/>
        </p:nvSpPr>
        <p:spPr>
          <a:xfrm flipH="1" rot="20730000">
            <a:off x="6992280" y="154476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люб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 rot="1233000">
            <a:off x="1719000" y="69336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5"/>
          <p:cNvSpPr/>
          <p:nvPr/>
        </p:nvSpPr>
        <p:spPr>
          <a:xfrm rot="19775400">
            <a:off x="6949440" y="98280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част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3571920" y="214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 rot="20468400">
            <a:off x="7379640" y="295704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радости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 rot="20859600">
            <a:off x="7143480" y="22856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 rot="961200">
            <a:off x="1031760" y="1277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дов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rot="1145400">
            <a:off x="12240" y="405612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работоспособности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rot="1135200">
            <a:off x="71280" y="3828960"/>
            <a:ext cx="51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богат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2"/>
          <p:cNvSpPr/>
          <p:nvPr/>
        </p:nvSpPr>
        <p:spPr>
          <a:xfrm rot="20010600">
            <a:off x="6101640" y="744120"/>
            <a:ext cx="19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ув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3"/>
          <p:cNvSpPr/>
          <p:nvPr/>
        </p:nvSpPr>
        <p:spPr>
          <a:xfrm flipH="1" flipV="1" rot="9696000">
            <a:off x="7644240" y="46141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весел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4"/>
          <p:cNvSpPr/>
          <p:nvPr/>
        </p:nvSpPr>
        <p:spPr>
          <a:xfrm flipV="1" rot="11705400">
            <a:off x="-92520" y="4980600"/>
            <a:ext cx="50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реш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5"/>
          <p:cNvSpPr/>
          <p:nvPr/>
        </p:nvSpPr>
        <p:spPr>
          <a:xfrm rot="1237200">
            <a:off x="754560" y="1821960"/>
            <a:ext cx="35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/>
          <p:cNvSpPr/>
          <p:nvPr/>
        </p:nvSpPr>
        <p:spPr>
          <a:xfrm>
            <a:off x="3157560" y="1143000"/>
            <a:ext cx="30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целеустремлё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/>
          <p:cNvSpPr/>
          <p:nvPr/>
        </p:nvSpPr>
        <p:spPr>
          <a:xfrm flipV="1" rot="9661200">
            <a:off x="6400800" y="5246280"/>
            <a:ext cx="27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праведл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8"/>
          <p:cNvSpPr/>
          <p:nvPr/>
        </p:nvSpPr>
        <p:spPr>
          <a:xfrm rot="786000">
            <a:off x="232920" y="540072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с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9"/>
          <p:cNvSpPr/>
          <p:nvPr/>
        </p:nvSpPr>
        <p:spPr>
          <a:xfrm rot="726600">
            <a:off x="473040" y="2765520"/>
            <a:ext cx="49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отзывч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0"/>
          <p:cNvSpPr/>
          <p:nvPr/>
        </p:nvSpPr>
        <p:spPr>
          <a:xfrm rot="20877600">
            <a:off x="7316280" y="2581200"/>
            <a:ext cx="18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искр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1"/>
          <p:cNvSpPr/>
          <p:nvPr/>
        </p:nvSpPr>
        <p:spPr>
          <a:xfrm>
            <a:off x="3500280" y="785880"/>
            <a:ext cx="18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i?id=44903203-36-72&amp;n=21"/>
          <p:cNvPicPr/>
          <p:nvPr/>
        </p:nvPicPr>
        <p:blipFill>
          <a:blip r:embed="rId1"/>
          <a:stretch/>
        </p:blipFill>
        <p:spPr>
          <a:xfrm>
            <a:off x="0" y="-576360"/>
            <a:ext cx="10510920" cy="7434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332000" y="3141720"/>
            <a:ext cx="418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14240" y="404640"/>
            <a:ext cx="842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трудничеств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1928880" y="135720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бъяснять свои жел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ыслушивать друг- дру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держивать свои эмо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предупреждения конфликт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говорите сразу с взвинченным, возбуждённым челове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жде чем сказать о неприятном человеку, постарайтесь создать доброжелательную атмосферу, отметьте его заслуги и его хорошие 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райтесь посмотреть на проблему глазами оппонента, постарайтесь «встать на его мест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скрывайте доброго отношения к людям, чаще высказывайте одобрение своим товарищам, не скупитесь на похва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ейте заставить себя молчать, когда вас задевают в мелкой ссоре ,будьте выше мелочных разборок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_giving_thumbs_up_hg_clr"/>
          <p:cNvPicPr/>
          <p:nvPr/>
        </p:nvPicPr>
        <p:blipFill>
          <a:blip r:embed="rId1"/>
          <a:stretch/>
        </p:blipFill>
        <p:spPr>
          <a:xfrm>
            <a:off x="7686720" y="189000"/>
            <a:ext cx="145728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Scale>
                                      <p:cBhvr>
                                        <p:cTn id="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i?id=92312131-63-72&amp;n=21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-281160" y="-3682440"/>
            <a:ext cx="9707760" cy="10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oudy Stout"/>
              </a:rPr>
              <a:t>Язык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oudy Stout"/>
              </a:rPr>
              <a:t>лучший посред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oudy Stout"/>
              </a:rPr>
              <a:t>для установл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oudy Stout"/>
              </a:rPr>
              <a:t>дружбы и соглас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разм Роттердам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режде чем сказать-посчитай до десяти,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режде чем обидеть-посчитай до ста,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режде чем ударить- 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осчитай до тысячи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600" spc="-1" strike="noStrike">
                <a:solidFill>
                  <a:srgbClr val="00ff00"/>
                </a:solidFill>
                <a:latin typeface="Arial"/>
              </a:rPr>
              <a:t>(Старинная народная мудрост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9" descr="i?id=79524606-27-72&amp;n=21"/>
          <p:cNvPicPr/>
          <p:nvPr/>
        </p:nvPicPr>
        <p:blipFill>
          <a:blip r:embed="rId1"/>
          <a:stretch/>
        </p:blipFill>
        <p:spPr>
          <a:xfrm>
            <a:off x="7524720" y="4708440"/>
            <a:ext cx="1619280" cy="214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i?id=16874360-01-72&amp;n=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179280" y="0"/>
            <a:ext cx="8964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жде чем сказать-посчитай до десяти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жде чем обидеть-посчитай до ста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жде чем ударить-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читай до тысячи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(Старинная народная мудрос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Calibri"/>
              </a:rPr>
              <a:t>Стратегии поведения в конфликте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74" name="Picture 2" descr="C:\Documents and Settings\Учитель\Рабочий стол\доклад\13.jpg"/>
          <p:cNvPicPr/>
          <p:nvPr/>
        </p:nvPicPr>
        <p:blipFill>
          <a:blip r:embed="rId1"/>
          <a:stretch/>
        </p:blipFill>
        <p:spPr>
          <a:xfrm>
            <a:off x="0" y="3789360"/>
            <a:ext cx="2835360" cy="283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i?id=177395400-00-72&amp;n=21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100008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тратегии поведения в конфлик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i?id=44903203-36-72&amp;n=21"/>
          <p:cNvPicPr/>
          <p:nvPr/>
        </p:nvPicPr>
        <p:blipFill>
          <a:blip r:embed="rId1"/>
          <a:stretch/>
        </p:blipFill>
        <p:spPr>
          <a:xfrm>
            <a:off x="0" y="-576360"/>
            <a:ext cx="10510920" cy="7434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1332000" y="3141720"/>
            <a:ext cx="418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онкуренция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 flipV="1" rot="10785000">
            <a:off x="4781160" y="5657040"/>
            <a:ext cx="396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бег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 flipV="1" rot="10800000">
            <a:off x="1185480" y="1339560"/>
            <a:ext cx="51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способ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5076720" y="2349360"/>
            <a:ext cx="40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омпроми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4284720" y="404640"/>
            <a:ext cx="48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трудничеств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нкурен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14240" y="1785600"/>
            <a:ext cx="79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тобы я победил, ты                   должен проигр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использовать человек, обладающий сильной волей, достаточным авторитетом, властью, не очень заинтересованный в сотрудничестве с другой стороны и стремящийся в первую очередь удовлетворить собственные интере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&amp;Mcy;&amp;iecy;&amp;zhcy;&amp;lcy;&amp;icy;&amp;chcy;&amp;ncy;&amp;ocy;&amp;scy;&amp;tcy;&amp;ncy;&amp;ycy;&amp;jcy; &amp;kcy;&amp;ocy;&amp;ncy;&amp;fcy;&amp;lcy;&amp;icy;&amp;kcy;&amp;tcy;"/>
          <p:cNvPicPr/>
          <p:nvPr/>
        </p:nvPicPr>
        <p:blipFill>
          <a:blip r:embed="rId1"/>
          <a:stretch/>
        </p:blipFill>
        <p:spPr>
          <a:xfrm>
            <a:off x="0" y="0"/>
            <a:ext cx="1967040" cy="2428920"/>
          </a:xfrm>
          <a:prstGeom prst="rect">
            <a:avLst/>
          </a:prstGeom>
          <a:ln w="0">
            <a:noFill/>
          </a:ln>
        </p:spPr>
      </p:pic>
      <p:pic>
        <p:nvPicPr>
          <p:cNvPr id="88" name="VN550452.WMA" descr=""/>
          <p:cNvPicPr/>
          <p:nvPr/>
        </p:nvPicPr>
        <p:blipFill>
          <a:blip r:embed="rId2"/>
          <a:stretch/>
        </p:blipFill>
        <p:spPr>
          <a:xfrm>
            <a:off x="42148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848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збег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бы ни было, я ухожу</a:t>
            </a: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тратегия рекомендуется в тех случаях, когда одна из сторон обладает большей властью или чувствует, что неправа, или считает, что нет серьезных оснований для продолжения контактов</a:t>
            </a:r>
            <a:br>
              <a:rPr sz="3600"/>
            </a:br>
            <a:br>
              <a:rPr sz="6000"/>
            </a:b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i?id=37068140-17-72&amp;n=21"/>
          <p:cNvPicPr/>
          <p:nvPr/>
        </p:nvPicPr>
        <p:blipFill>
          <a:blip r:embed="rId1"/>
          <a:stretch/>
        </p:blipFill>
        <p:spPr>
          <a:xfrm>
            <a:off x="6929280" y="50720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VN550454.WMA" descr=""/>
          <p:cNvPicPr/>
          <p:nvPr/>
        </p:nvPicPr>
        <p:blipFill>
          <a:blip r:embed="rId2"/>
          <a:stretch/>
        </p:blipFill>
        <p:spPr>
          <a:xfrm>
            <a:off x="464328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685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Calibri"/>
              </a:rPr>
              <a:t>Приспособл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тобы ты выиграл,я должен проигр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&amp;Ucy;&amp;rcy;&amp;iecy;&amp;gcy;&amp;ucy;&amp;lcy;&amp;icy;&amp;rcy;&amp;ocy;&amp;vcy;&amp;acy;&amp;ncy;&amp;icy;&amp;iecy; &amp;kcy;&amp;ocy;&amp;ncy;&amp;fcy;&amp;lcy;&amp;icy;&amp;kcy;&amp;tcy;&amp;acy;"/>
          <p:cNvPicPr/>
          <p:nvPr/>
        </p:nvPicPr>
        <p:blipFill>
          <a:blip r:embed="rId1"/>
          <a:stretch/>
        </p:blipFill>
        <p:spPr>
          <a:xfrm>
            <a:off x="5170320" y="3714840"/>
            <a:ext cx="3973680" cy="2968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79280" y="2253600"/>
            <a:ext cx="4892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эффективна, когда исход дела чрезвычайно важен для другой стороны и не очень существен для ва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VN550455.WMA" descr=""/>
          <p:cNvPicPr/>
          <p:nvPr/>
        </p:nvPicPr>
        <p:blipFill>
          <a:blip r:embed="rId2"/>
          <a:stretch/>
        </p:blipFill>
        <p:spPr>
          <a:xfrm>
            <a:off x="80722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49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мпромис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3840" y="1600200"/>
            <a:ext cx="86439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каждый из нас что-то выиграл, каждый из нас должен что-то проигра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представителей разных точек зрений и интересов на основе взаимных уступ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 стороны хотят одного и того же, но знают, что одновременно это невыполнимо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8" descr="i?id=144068208-21-72&amp;n=21"/>
          <p:cNvPicPr/>
          <p:nvPr/>
        </p:nvPicPr>
        <p:blipFill>
          <a:blip r:embed="rId1"/>
          <a:stretch/>
        </p:blipFill>
        <p:spPr>
          <a:xfrm>
            <a:off x="6929280" y="5857920"/>
            <a:ext cx="221472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VN550456.WMA" descr=""/>
          <p:cNvPicPr/>
          <p:nvPr/>
        </p:nvPicPr>
        <p:blipFill>
          <a:blip r:embed="rId2"/>
          <a:stretch/>
        </p:blipFill>
        <p:spPr>
          <a:xfrm>
            <a:off x="7786800" y="6429240"/>
            <a:ext cx="3045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103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трудничеств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тобы выиграл я, ты тоже должен выигра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её применения - разработка долгосрочного взаимовыгодного решения. Такая стратегия требует умения объяснять свои желания, выслушивать друг друга, сдерживать свои эмоции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business_women_shaking_hands_hg_clr"/>
          <p:cNvPicPr/>
          <p:nvPr/>
        </p:nvPicPr>
        <p:blipFill>
          <a:blip r:embed="rId1"/>
          <a:stretch/>
        </p:blipFill>
        <p:spPr>
          <a:xfrm>
            <a:off x="7858080" y="0"/>
            <a:ext cx="1428840" cy="3027240"/>
          </a:xfrm>
          <a:prstGeom prst="rect">
            <a:avLst/>
          </a:prstGeom>
          <a:ln w="0">
            <a:noFill/>
          </a:ln>
        </p:spPr>
      </p:pic>
      <p:pic>
        <p:nvPicPr>
          <p:cNvPr id="105" name="VN550457.WMA" descr=""/>
          <p:cNvPicPr/>
          <p:nvPr/>
        </p:nvPicPr>
        <p:blipFill>
          <a:blip r:embed="rId2"/>
          <a:stretch/>
        </p:blipFill>
        <p:spPr>
          <a:xfrm>
            <a:off x="871524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713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EEDxp</cp:lastModifiedBy>
  <dcterms:modified xsi:type="dcterms:W3CDTF">2014-03-10T13:43:43Z</dcterms:modified>
  <cp:revision>80</cp:revision>
  <dc:subject/>
  <dc:title>Слайд 1</dc:title>
</cp:coreProperties>
</file>